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C0E1-8E18-487B-858E-072914B8B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B437-3B40-43F6-B593-97EC2326B58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97BE-1C2F-43AD-A357-70439A5DDB2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D9B8-4B35-474E-A84B-4A524A683A4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C7C7-3232-479B-AA69-E4F9D23CC86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4E92-C260-4CE9-A576-BA596E14B398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30F7-BD3C-4FC8-ADBF-7D684D26829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7336-9559-43EE-AF2A-E2AFDB6883E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82DE-2988-43EE-876C-D55E6C5BA16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E2A2-CF35-47B0-A521-0EF20794D33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3B1F-7FBE-4553-8930-08EA3F1DCD6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B404-F27A-41AF-A969-7A9A65B18A94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6AA5-E67C-484A-BA9F-170928EA697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BF4B-F8BE-475D-B229-F0E2C49A3A44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C134-19A8-47F7-B61B-76EE01CEA5F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B21-BC05-41A0-9B11-76AC78A5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3D1D-49B9-4920-B99D-7CB6B122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B69F-941C-4CCE-BBE6-108685EB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B6C-7996-404A-944E-5C38132C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8E7-CFAD-4709-A2C6-CA3E537A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CEF-1320-4799-BCDE-78207172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26B-4E47-4775-9F78-723DBAC9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BD2-3D53-4689-ABDC-7F2546F4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71E-C238-4BFA-B26F-5BA661E1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9BC-F772-472C-9B80-85AF2DFE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B65-BC5E-4AE7-90DF-5AF26EC2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04C-9037-4908-8E18-5DBEBC5E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93A7-D1C0-4711-A72B-158FB35947F3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Verdana"/>
              </a:rPr>
              <a:t>Basic Geometry Review-Shapes and Angles</a:t>
            </a:r>
            <a:endParaRPr b="1" lang="en-US" sz="6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Obtuse Angle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17524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 angle that is larger than 90 degrees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2540160" y="3413160"/>
            <a:ext cx="3936960" cy="20476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2666880" y="556272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www.misterteacher.com/alphabetgeometry/obtuseangles.html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838080" y="5029200"/>
            <a:ext cx="2590920" cy="7632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AutoShape 10">
            <a:hlinkClick r:id="" action="ppaction://hlinkshowjump?jump=nextslide"/>
          </p:cNvPr>
          <p:cNvSpPr/>
          <p:nvPr/>
        </p:nvSpPr>
        <p:spPr>
          <a:xfrm>
            <a:off x="7467480" y="55627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3794"/>
                </a:moveTo>
                <a:lnTo>
                  <a:pt x="20893" y="10800"/>
                </a:lnTo>
                <a:lnTo>
                  <a:pt x="6880" y="17806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What type of shapes have obtuse angles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752480" y="2362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Most common: Triangl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2209680" y="3429000"/>
            <a:ext cx="0" cy="121932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2209680" y="4648320"/>
            <a:ext cx="1905120" cy="15238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2209680" y="3505320"/>
            <a:ext cx="1905120" cy="266688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2361960" y="4572000"/>
            <a:ext cx="243828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181480" y="37339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is angle is obtuse because it is larger than 90 degre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6629400" y="5562720"/>
            <a:ext cx="1905120" cy="1066680"/>
          </a:xfrm>
          <a:custGeom>
            <a:avLst/>
            <a:gdLst>
              <a:gd name="textAreaLeft" fmla="*/ 69120 w 1905120"/>
              <a:gd name="textAreaRight" fmla="*/ 1836000 w 1905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8572" h="21600">
                <a:moveTo>
                  <a:pt x="0" y="0"/>
                </a:moveTo>
                <a:lnTo>
                  <a:pt x="38572" y="0"/>
                </a:lnTo>
                <a:lnTo>
                  <a:pt x="38572" y="21600"/>
                </a:lnTo>
                <a:lnTo>
                  <a:pt x="0" y="21600"/>
                </a:lnTo>
                <a:close/>
              </a:path>
              <a:path fill="lightenLess" w="38572" h="21600">
                <a:moveTo>
                  <a:pt x="0" y="0"/>
                </a:moveTo>
                <a:lnTo>
                  <a:pt x="38572" y="0"/>
                </a:lnTo>
                <a:lnTo>
                  <a:pt x="37172" y="1400"/>
                </a:lnTo>
                <a:lnTo>
                  <a:pt x="1400" y="1400"/>
                </a:lnTo>
                <a:close/>
              </a:path>
              <a:path fill="darken" w="38572" h="21600">
                <a:moveTo>
                  <a:pt x="38572" y="0"/>
                </a:moveTo>
                <a:lnTo>
                  <a:pt x="38572" y="21600"/>
                </a:lnTo>
                <a:lnTo>
                  <a:pt x="37172" y="20200"/>
                </a:lnTo>
                <a:lnTo>
                  <a:pt x="37172" y="1400"/>
                </a:lnTo>
                <a:close/>
              </a:path>
              <a:path fill="darkenLess" w="38572" h="21600">
                <a:moveTo>
                  <a:pt x="38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72" y="20200"/>
                </a:lnTo>
                <a:close/>
              </a:path>
              <a:path fill="lighten" w="38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72" h="21600">
                <a:moveTo>
                  <a:pt x="19286" y="3837"/>
                </a:moveTo>
                <a:lnTo>
                  <a:pt x="21863" y="6448"/>
                </a:lnTo>
                <a:lnTo>
                  <a:pt x="21863" y="4707"/>
                </a:lnTo>
                <a:lnTo>
                  <a:pt x="23638" y="4707"/>
                </a:lnTo>
                <a:lnTo>
                  <a:pt x="23638" y="8224"/>
                </a:lnTo>
                <a:lnTo>
                  <a:pt x="26249" y="10800"/>
                </a:lnTo>
                <a:lnTo>
                  <a:pt x="24595" y="10800"/>
                </a:lnTo>
                <a:lnTo>
                  <a:pt x="24595" y="17989"/>
                </a:lnTo>
                <a:lnTo>
                  <a:pt x="13977" y="17989"/>
                </a:lnTo>
                <a:lnTo>
                  <a:pt x="13977" y="10800"/>
                </a:lnTo>
                <a:lnTo>
                  <a:pt x="12323" y="10800"/>
                </a:lnTo>
                <a:close/>
              </a:path>
              <a:path fill="darkenLess" w="38572" h="21600">
                <a:moveTo>
                  <a:pt x="21863" y="6448"/>
                </a:moveTo>
                <a:lnTo>
                  <a:pt x="21863" y="4707"/>
                </a:lnTo>
                <a:lnTo>
                  <a:pt x="23638" y="4707"/>
                </a:lnTo>
                <a:lnTo>
                  <a:pt x="23638" y="8224"/>
                </a:lnTo>
                <a:close/>
              </a:path>
              <a:path fill="darkenLess" w="38572" h="21600">
                <a:moveTo>
                  <a:pt x="18364" y="14299"/>
                </a:moveTo>
                <a:lnTo>
                  <a:pt x="20209" y="14299"/>
                </a:lnTo>
                <a:lnTo>
                  <a:pt x="20209" y="17989"/>
                </a:lnTo>
                <a:lnTo>
                  <a:pt x="24595" y="17989"/>
                </a:lnTo>
                <a:lnTo>
                  <a:pt x="24595" y="10800"/>
                </a:lnTo>
                <a:lnTo>
                  <a:pt x="13977" y="10800"/>
                </a:lnTo>
                <a:lnTo>
                  <a:pt x="13977" y="17989"/>
                </a:lnTo>
                <a:lnTo>
                  <a:pt x="18364" y="17989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Right Angle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2895840" cy="28958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3048120" y="595944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http://commons.wikimedia.org/wiki/File:Right_angle.svg</a:t>
            </a:r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85800" y="1676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 angle that measures 90 degrees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609480" y="5334120"/>
            <a:ext cx="2438640" cy="7596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AutoShape 8">
            <a:hlinkClick r:id="" action="ppaction://hlinkshowjump?jump=nextslide"/>
          </p:cNvPr>
          <p:cNvSpPr/>
          <p:nvPr/>
        </p:nvSpPr>
        <p:spPr>
          <a:xfrm>
            <a:off x="7238880" y="5105520"/>
            <a:ext cx="1524240" cy="1371600"/>
          </a:xfrm>
          <a:custGeom>
            <a:avLst/>
            <a:gdLst>
              <a:gd name="textAreaLeft" fmla="*/ 88920 w 1524240"/>
              <a:gd name="textAreaRight" fmla="*/ 1435320 w 152424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What types of shapes have right angles?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457200" y="3990960"/>
            <a:ext cx="3174840" cy="1952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1260360" y="5987880"/>
            <a:ext cx="18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www.star-ed.com</a:t>
            </a:r>
            <a:endParaRPr b="0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4456080" y="3124080"/>
            <a:ext cx="1639800" cy="164016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>
            <a:off x="4952880" y="3276720"/>
            <a:ext cx="0" cy="38088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5562720" y="3276720"/>
            <a:ext cx="0" cy="38088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4876920" y="4343400"/>
            <a:ext cx="0" cy="38088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5562720" y="4267080"/>
            <a:ext cx="0" cy="38124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4572000" y="365760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 flipH="1">
            <a:off x="4495320" y="4343400"/>
            <a:ext cx="38124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 flipH="1">
            <a:off x="5562720" y="365760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 flipH="1">
            <a:off x="5562720" y="426708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4419720" y="4952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quar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533520" y="33210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ight Triangl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87" name="Picture 17" descr=""/>
          <p:cNvPicPr/>
          <p:nvPr/>
        </p:nvPicPr>
        <p:blipFill>
          <a:blip r:embed="rId3"/>
          <a:stretch/>
        </p:blipFill>
        <p:spPr>
          <a:xfrm>
            <a:off x="7162920" y="2971800"/>
            <a:ext cx="1447560" cy="2440080"/>
          </a:xfrm>
          <a:prstGeom prst="rect">
            <a:avLst/>
          </a:prstGeom>
          <a:ln w="0">
            <a:noFill/>
          </a:ln>
        </p:spPr>
      </p:pic>
      <p:sp>
        <p:nvSpPr>
          <p:cNvPr id="188" name="Line 18"/>
          <p:cNvSpPr/>
          <p:nvPr/>
        </p:nvSpPr>
        <p:spPr>
          <a:xfrm flipH="1">
            <a:off x="7162920" y="335268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 flipH="1">
            <a:off x="7162920" y="502920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8229600" y="335268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H="1">
            <a:off x="8229600" y="5029200"/>
            <a:ext cx="38088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7543800" y="5029200"/>
            <a:ext cx="0" cy="38088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7543800" y="2971800"/>
            <a:ext cx="0" cy="38088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8229600" y="2971800"/>
            <a:ext cx="0" cy="38088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8229600" y="5029200"/>
            <a:ext cx="0" cy="38088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6858000" y="5791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ectangl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AutoShape 27"/>
          <p:cNvSpPr/>
          <p:nvPr/>
        </p:nvSpPr>
        <p:spPr>
          <a:xfrm>
            <a:off x="4419720" y="5791320"/>
            <a:ext cx="1981080" cy="838080"/>
          </a:xfrm>
          <a:custGeom>
            <a:avLst/>
            <a:gdLst>
              <a:gd name="textAreaLeft" fmla="*/ 54000 w 1981080"/>
              <a:gd name="textAreaRight" fmla="*/ 1927080 w 1981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1046" h="21600">
                <a:moveTo>
                  <a:pt x="0" y="0"/>
                </a:moveTo>
                <a:lnTo>
                  <a:pt x="51046" y="0"/>
                </a:lnTo>
                <a:lnTo>
                  <a:pt x="51046" y="21600"/>
                </a:lnTo>
                <a:lnTo>
                  <a:pt x="0" y="21600"/>
                </a:lnTo>
                <a:close/>
              </a:path>
              <a:path fill="lightenLess" w="51046" h="21600">
                <a:moveTo>
                  <a:pt x="0" y="0"/>
                </a:moveTo>
                <a:lnTo>
                  <a:pt x="51046" y="0"/>
                </a:lnTo>
                <a:lnTo>
                  <a:pt x="49646" y="1400"/>
                </a:lnTo>
                <a:lnTo>
                  <a:pt x="1400" y="1400"/>
                </a:lnTo>
                <a:close/>
              </a:path>
              <a:path fill="darken" w="51046" h="21600">
                <a:moveTo>
                  <a:pt x="51046" y="0"/>
                </a:moveTo>
                <a:lnTo>
                  <a:pt x="51046" y="21600"/>
                </a:lnTo>
                <a:lnTo>
                  <a:pt x="49646" y="20200"/>
                </a:lnTo>
                <a:lnTo>
                  <a:pt x="49646" y="1400"/>
                </a:lnTo>
                <a:close/>
              </a:path>
              <a:path fill="darkenLess" w="51046" h="21600">
                <a:moveTo>
                  <a:pt x="51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46" y="20200"/>
                </a:lnTo>
                <a:close/>
              </a:path>
              <a:path fill="lighten" w="51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046" h="21600">
                <a:moveTo>
                  <a:pt x="25523" y="3837"/>
                </a:moveTo>
                <a:lnTo>
                  <a:pt x="28099" y="6448"/>
                </a:lnTo>
                <a:lnTo>
                  <a:pt x="28099" y="4707"/>
                </a:lnTo>
                <a:lnTo>
                  <a:pt x="29875" y="4707"/>
                </a:lnTo>
                <a:lnTo>
                  <a:pt x="29875" y="8224"/>
                </a:lnTo>
                <a:lnTo>
                  <a:pt x="32486" y="10800"/>
                </a:lnTo>
                <a:lnTo>
                  <a:pt x="30832" y="10800"/>
                </a:lnTo>
                <a:lnTo>
                  <a:pt x="30832" y="17989"/>
                </a:lnTo>
                <a:lnTo>
                  <a:pt x="20214" y="17989"/>
                </a:lnTo>
                <a:lnTo>
                  <a:pt x="20214" y="10800"/>
                </a:lnTo>
                <a:lnTo>
                  <a:pt x="18560" y="10800"/>
                </a:lnTo>
                <a:close/>
              </a:path>
              <a:path fill="darkenLess" w="51046" h="21600">
                <a:moveTo>
                  <a:pt x="28099" y="6448"/>
                </a:moveTo>
                <a:lnTo>
                  <a:pt x="28099" y="4707"/>
                </a:lnTo>
                <a:lnTo>
                  <a:pt x="29875" y="4707"/>
                </a:lnTo>
                <a:lnTo>
                  <a:pt x="29875" y="8224"/>
                </a:lnTo>
                <a:close/>
              </a:path>
              <a:path fill="darkenLess" w="51046" h="21600">
                <a:moveTo>
                  <a:pt x="24600" y="14299"/>
                </a:moveTo>
                <a:lnTo>
                  <a:pt x="26446" y="14299"/>
                </a:lnTo>
                <a:lnTo>
                  <a:pt x="26446" y="17989"/>
                </a:lnTo>
                <a:lnTo>
                  <a:pt x="30832" y="17989"/>
                </a:lnTo>
                <a:lnTo>
                  <a:pt x="30832" y="10800"/>
                </a:lnTo>
                <a:lnTo>
                  <a:pt x="20214" y="10800"/>
                </a:lnTo>
                <a:lnTo>
                  <a:pt x="20214" y="17989"/>
                </a:lnTo>
                <a:lnTo>
                  <a:pt x="24600" y="17989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Finished?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295280" y="190512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You have now successfully reviewed your basic geometric shapes and angle names!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3505320" cy="235296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6"/>
          <p:cNvSpPr/>
          <p:nvPr/>
        </p:nvSpPr>
        <p:spPr>
          <a:xfrm>
            <a:off x="7238880" y="56386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3" h="21600">
                <a:moveTo>
                  <a:pt x="17442" y="3837"/>
                </a:moveTo>
                <a:lnTo>
                  <a:pt x="20018" y="6448"/>
                </a:lnTo>
                <a:lnTo>
                  <a:pt x="20018" y="4707"/>
                </a:lnTo>
                <a:lnTo>
                  <a:pt x="21793" y="4707"/>
                </a:lnTo>
                <a:lnTo>
                  <a:pt x="21793" y="8224"/>
                </a:lnTo>
                <a:lnTo>
                  <a:pt x="24405" y="10800"/>
                </a:lnTo>
                <a:lnTo>
                  <a:pt x="22751" y="10800"/>
                </a:lnTo>
                <a:lnTo>
                  <a:pt x="22751" y="17989"/>
                </a:lnTo>
                <a:lnTo>
                  <a:pt x="12132" y="17989"/>
                </a:lnTo>
                <a:lnTo>
                  <a:pt x="12132" y="10800"/>
                </a:lnTo>
                <a:lnTo>
                  <a:pt x="10479" y="10800"/>
                </a:lnTo>
                <a:close/>
              </a:path>
              <a:path fill="darkenLess" w="34883" h="21600">
                <a:moveTo>
                  <a:pt x="20018" y="6448"/>
                </a:moveTo>
                <a:lnTo>
                  <a:pt x="20018" y="4707"/>
                </a:lnTo>
                <a:lnTo>
                  <a:pt x="21793" y="4707"/>
                </a:lnTo>
                <a:lnTo>
                  <a:pt x="21793" y="8224"/>
                </a:lnTo>
                <a:close/>
              </a:path>
              <a:path fill="darkenLess" w="34883" h="21600">
                <a:moveTo>
                  <a:pt x="16519" y="14299"/>
                </a:moveTo>
                <a:lnTo>
                  <a:pt x="18364" y="14299"/>
                </a:lnTo>
                <a:lnTo>
                  <a:pt x="18364" y="17989"/>
                </a:lnTo>
                <a:lnTo>
                  <a:pt x="22751" y="17989"/>
                </a:lnTo>
                <a:lnTo>
                  <a:pt x="22751" y="10800"/>
                </a:lnTo>
                <a:lnTo>
                  <a:pt x="12132" y="10800"/>
                </a:lnTo>
                <a:lnTo>
                  <a:pt x="12132" y="17989"/>
                </a:lnTo>
                <a:lnTo>
                  <a:pt x="16519" y="17989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Review Topics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0" y="15238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quare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6320" y="2590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Triangle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6320" y="36576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ctangle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362320" y="48006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olygon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5160960" y="1514520"/>
            <a:ext cx="192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422600" y="1584360"/>
            <a:ext cx="325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Obtuse Ang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495680" y="265104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cute Ang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572000" y="379404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ight Ang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AutoShape 16">
            <a:hlinkClick r:id="rId1" action="ppaction://hlinksldjump"/>
          </p:cNvPr>
          <p:cNvSpPr/>
          <p:nvPr/>
        </p:nvSpPr>
        <p:spPr>
          <a:xfrm>
            <a:off x="2666880" y="15238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1981080" y="1905120"/>
            <a:ext cx="60984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>
            <a:off x="2286000" y="2971800"/>
            <a:ext cx="60948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2743200" y="4038480"/>
            <a:ext cx="60948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4724280" y="5181480"/>
            <a:ext cx="60984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AutoShape 21">
            <a:hlinkClick r:id="rId2" action="ppaction://hlinksldjump"/>
          </p:cNvPr>
          <p:cNvSpPr/>
          <p:nvPr/>
        </p:nvSpPr>
        <p:spPr>
          <a:xfrm>
            <a:off x="2971800" y="2590920"/>
            <a:ext cx="685800" cy="7617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1760"/>
              <a:gd name="textAreaBottom" fmla="*/ 717480 h 761760"/>
            </a:gdLst>
            <a:ahLst/>
            <a:rect l="textAreaLeft" t="textAreaTop" r="textAreaRight" b="textAreaBottom"/>
            <a:pathLst>
              <a:path w="21600" h="23991">
                <a:moveTo>
                  <a:pt x="0" y="0"/>
                </a:moveTo>
                <a:lnTo>
                  <a:pt x="21600" y="0"/>
                </a:lnTo>
                <a:lnTo>
                  <a:pt x="21600" y="23991"/>
                </a:lnTo>
                <a:lnTo>
                  <a:pt x="0" y="23991"/>
                </a:lnTo>
                <a:close/>
              </a:path>
              <a:path fill="lightenLess" w="21600" h="239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1">
                <a:moveTo>
                  <a:pt x="21600" y="0"/>
                </a:moveTo>
                <a:lnTo>
                  <a:pt x="21600" y="23991"/>
                </a:lnTo>
                <a:lnTo>
                  <a:pt x="20200" y="22591"/>
                </a:lnTo>
                <a:lnTo>
                  <a:pt x="20200" y="1400"/>
                </a:lnTo>
                <a:close/>
              </a:path>
              <a:path fill="darkenLess" w="21600" h="23991">
                <a:moveTo>
                  <a:pt x="21600" y="23991"/>
                </a:moveTo>
                <a:lnTo>
                  <a:pt x="0" y="23991"/>
                </a:lnTo>
                <a:lnTo>
                  <a:pt x="1400" y="22591"/>
                </a:lnTo>
                <a:lnTo>
                  <a:pt x="20200" y="22591"/>
                </a:lnTo>
                <a:close/>
              </a:path>
              <a:path fill="lighten" w="21600" h="23991">
                <a:moveTo>
                  <a:pt x="0" y="239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1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AutoShape 22">
            <a:hlinkClick r:id="rId3" action="ppaction://hlinksldjump"/>
          </p:cNvPr>
          <p:cNvSpPr/>
          <p:nvPr/>
        </p:nvSpPr>
        <p:spPr>
          <a:xfrm>
            <a:off x="3429000" y="3733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Line 25"/>
          <p:cNvSpPr/>
          <p:nvPr/>
        </p:nvSpPr>
        <p:spPr>
          <a:xfrm>
            <a:off x="7391520" y="4191120"/>
            <a:ext cx="60948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7391520" y="3048120"/>
            <a:ext cx="60948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7620120" y="1981080"/>
            <a:ext cx="60948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AutoShape 28">
            <a:hlinkClick r:id="rId4" action="ppaction://hlinksldjump"/>
          </p:cNvPr>
          <p:cNvSpPr/>
          <p:nvPr/>
        </p:nvSpPr>
        <p:spPr>
          <a:xfrm>
            <a:off x="5486400" y="4876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AutoShape 30">
            <a:hlinkClick r:id="rId5" action="ppaction://hlinksldjump"/>
          </p:cNvPr>
          <p:cNvSpPr/>
          <p:nvPr/>
        </p:nvSpPr>
        <p:spPr>
          <a:xfrm>
            <a:off x="8077320" y="2819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AutoShape 31">
            <a:hlinkClick r:id="rId6" action="ppaction://hlinksldjump"/>
          </p:cNvPr>
          <p:cNvSpPr/>
          <p:nvPr/>
        </p:nvSpPr>
        <p:spPr>
          <a:xfrm>
            <a:off x="8305920" y="1676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AutoShape 32">
            <a:hlinkClick r:id="rId7" action="ppaction://hlinksldjump"/>
          </p:cNvPr>
          <p:cNvSpPr/>
          <p:nvPr/>
        </p:nvSpPr>
        <p:spPr>
          <a:xfrm>
            <a:off x="8153280" y="3962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1676520" y="586728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inished?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AutoShape 34">
            <a:hlinkClick r:id="rId8" action="ppaction://hlinksldjump"/>
          </p:cNvPr>
          <p:cNvSpPr/>
          <p:nvPr/>
        </p:nvSpPr>
        <p:spPr>
          <a:xfrm>
            <a:off x="4952880" y="6019920"/>
            <a:ext cx="1371600" cy="53316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5545" h="21600">
                <a:moveTo>
                  <a:pt x="0" y="0"/>
                </a:moveTo>
                <a:lnTo>
                  <a:pt x="55545" y="0"/>
                </a:lnTo>
                <a:lnTo>
                  <a:pt x="55545" y="21600"/>
                </a:lnTo>
                <a:lnTo>
                  <a:pt x="0" y="21600"/>
                </a:lnTo>
                <a:close/>
              </a:path>
              <a:path fill="lightenLess" w="55545" h="21600">
                <a:moveTo>
                  <a:pt x="0" y="0"/>
                </a:moveTo>
                <a:lnTo>
                  <a:pt x="55545" y="0"/>
                </a:lnTo>
                <a:lnTo>
                  <a:pt x="54145" y="1400"/>
                </a:lnTo>
                <a:lnTo>
                  <a:pt x="1400" y="1400"/>
                </a:lnTo>
                <a:close/>
              </a:path>
              <a:path fill="darken" w="55545" h="21600">
                <a:moveTo>
                  <a:pt x="55545" y="0"/>
                </a:moveTo>
                <a:lnTo>
                  <a:pt x="55545" y="21600"/>
                </a:lnTo>
                <a:lnTo>
                  <a:pt x="54145" y="20200"/>
                </a:lnTo>
                <a:lnTo>
                  <a:pt x="54145" y="1400"/>
                </a:lnTo>
                <a:close/>
              </a:path>
              <a:path fill="darkenLess" w="55545" h="21600">
                <a:moveTo>
                  <a:pt x="5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45" y="20200"/>
                </a:lnTo>
                <a:close/>
              </a:path>
              <a:path fill="lighten" w="5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>
            <a:off x="4191120" y="6248520"/>
            <a:ext cx="68580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Squares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124440" cy="312408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</p:pic>
      <p:sp>
        <p:nvSpPr>
          <p:cNvPr id="83" name="Text Box 5"/>
          <p:cNvSpPr/>
          <p:nvPr/>
        </p:nvSpPr>
        <p:spPr>
          <a:xfrm>
            <a:off x="380880" y="1447920"/>
            <a:ext cx="48769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66"/>
                </a:solidFill>
                <a:latin typeface="Arial"/>
              </a:rPr>
              <a:t>Each one of the sides of a square are equal to each other.</a:t>
            </a:r>
            <a:endParaRPr b="0" lang="en-US" sz="33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206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66"/>
                </a:solidFill>
                <a:latin typeface="Arial"/>
              </a:rPr>
              <a:t>The angles of the square are 90 degrees each.</a:t>
            </a:r>
            <a:endParaRPr b="0" lang="en-US" sz="33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206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66"/>
                </a:solidFill>
                <a:latin typeface="Arial"/>
              </a:rPr>
              <a:t>The total angle sum of a square is 360 degrees.</a:t>
            </a:r>
            <a:endParaRPr b="0" lang="en-US" sz="33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AutoShape 6">
            <a:hlinkClick r:id="rId2" action="ppaction://hlinksldjump"/>
          </p:cNvPr>
          <p:cNvSpPr/>
          <p:nvPr/>
        </p:nvSpPr>
        <p:spPr>
          <a:xfrm>
            <a:off x="6019920" y="5181480"/>
            <a:ext cx="2286000" cy="1295640"/>
          </a:xfrm>
          <a:custGeom>
            <a:avLst/>
            <a:gdLst>
              <a:gd name="textAreaLeft" fmla="*/ 83880 w 2286000"/>
              <a:gd name="textAreaRight" fmla="*/ 2202120 w 228600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38106" h="21600">
                <a:moveTo>
                  <a:pt x="0" y="0"/>
                </a:moveTo>
                <a:lnTo>
                  <a:pt x="38106" y="0"/>
                </a:lnTo>
                <a:lnTo>
                  <a:pt x="38106" y="21600"/>
                </a:lnTo>
                <a:lnTo>
                  <a:pt x="0" y="21600"/>
                </a:lnTo>
                <a:close/>
              </a:path>
              <a:path fill="lightenLess" w="38106" h="21600">
                <a:moveTo>
                  <a:pt x="0" y="0"/>
                </a:moveTo>
                <a:lnTo>
                  <a:pt x="38106" y="0"/>
                </a:lnTo>
                <a:lnTo>
                  <a:pt x="36706" y="1400"/>
                </a:lnTo>
                <a:lnTo>
                  <a:pt x="1400" y="1400"/>
                </a:lnTo>
                <a:close/>
              </a:path>
              <a:path fill="darken" w="38106" h="21600">
                <a:moveTo>
                  <a:pt x="38106" y="0"/>
                </a:moveTo>
                <a:lnTo>
                  <a:pt x="38106" y="21600"/>
                </a:lnTo>
                <a:lnTo>
                  <a:pt x="36706" y="20200"/>
                </a:lnTo>
                <a:lnTo>
                  <a:pt x="36706" y="1400"/>
                </a:lnTo>
                <a:close/>
              </a:path>
              <a:path fill="darkenLess" w="38106" h="21600">
                <a:moveTo>
                  <a:pt x="381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06" y="20200"/>
                </a:lnTo>
                <a:close/>
              </a:path>
              <a:path fill="lighten" w="381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06" h="21600">
                <a:moveTo>
                  <a:pt x="19053" y="3837"/>
                </a:moveTo>
                <a:lnTo>
                  <a:pt x="21629" y="6448"/>
                </a:lnTo>
                <a:lnTo>
                  <a:pt x="21629" y="4707"/>
                </a:lnTo>
                <a:lnTo>
                  <a:pt x="23405" y="4707"/>
                </a:lnTo>
                <a:lnTo>
                  <a:pt x="23405" y="8224"/>
                </a:lnTo>
                <a:lnTo>
                  <a:pt x="26016" y="10800"/>
                </a:lnTo>
                <a:lnTo>
                  <a:pt x="24362" y="10800"/>
                </a:lnTo>
                <a:lnTo>
                  <a:pt x="24362" y="17989"/>
                </a:lnTo>
                <a:lnTo>
                  <a:pt x="13744" y="17989"/>
                </a:lnTo>
                <a:lnTo>
                  <a:pt x="13744" y="10800"/>
                </a:lnTo>
                <a:lnTo>
                  <a:pt x="12090" y="10800"/>
                </a:lnTo>
                <a:close/>
              </a:path>
              <a:path fill="darkenLess" w="38106" h="21600">
                <a:moveTo>
                  <a:pt x="21629" y="6448"/>
                </a:moveTo>
                <a:lnTo>
                  <a:pt x="21629" y="4707"/>
                </a:lnTo>
                <a:lnTo>
                  <a:pt x="23405" y="4707"/>
                </a:lnTo>
                <a:lnTo>
                  <a:pt x="23405" y="8224"/>
                </a:lnTo>
                <a:close/>
              </a:path>
              <a:path fill="darkenLess" w="38106" h="21600">
                <a:moveTo>
                  <a:pt x="18130" y="14299"/>
                </a:moveTo>
                <a:lnTo>
                  <a:pt x="19976" y="14299"/>
                </a:lnTo>
                <a:lnTo>
                  <a:pt x="19976" y="17989"/>
                </a:lnTo>
                <a:lnTo>
                  <a:pt x="24362" y="17989"/>
                </a:lnTo>
                <a:lnTo>
                  <a:pt x="24362" y="10800"/>
                </a:lnTo>
                <a:lnTo>
                  <a:pt x="13744" y="10800"/>
                </a:lnTo>
                <a:lnTo>
                  <a:pt x="13744" y="17989"/>
                </a:lnTo>
                <a:lnTo>
                  <a:pt x="18130" y="17989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Triangles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063600" cy="2655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3962520" y="16765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581280" y="1295280"/>
            <a:ext cx="5334120" cy="53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In a triangle, the sides do not have to be the same length.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There are four types of triangles: right triangle, isosceles triangle, equilateral triangle, and scalene triangle.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The angle sum of the triangle has to add up to 180 degrees.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AutoShape 8">
            <a:hlinkClick r:id="rId2" action="ppaction://hlinksldjump"/>
          </p:cNvPr>
          <p:cNvSpPr/>
          <p:nvPr/>
        </p:nvSpPr>
        <p:spPr>
          <a:xfrm>
            <a:off x="762120" y="5257800"/>
            <a:ext cx="2057400" cy="1371600"/>
          </a:xfrm>
          <a:custGeom>
            <a:avLst/>
            <a:gdLst>
              <a:gd name="textAreaLeft" fmla="*/ 88920 w 2057400"/>
              <a:gd name="textAreaRight" fmla="*/ 1968480 w 20574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32397" h="21600">
                <a:moveTo>
                  <a:pt x="0" y="0"/>
                </a:moveTo>
                <a:lnTo>
                  <a:pt x="32397" y="0"/>
                </a:lnTo>
                <a:lnTo>
                  <a:pt x="32397" y="21600"/>
                </a:lnTo>
                <a:lnTo>
                  <a:pt x="0" y="21600"/>
                </a:lnTo>
                <a:close/>
              </a:path>
              <a:path fill="lightenLess" w="32397" h="21600">
                <a:moveTo>
                  <a:pt x="0" y="0"/>
                </a:moveTo>
                <a:lnTo>
                  <a:pt x="32397" y="0"/>
                </a:lnTo>
                <a:lnTo>
                  <a:pt x="30997" y="1400"/>
                </a:lnTo>
                <a:lnTo>
                  <a:pt x="1400" y="1400"/>
                </a:lnTo>
                <a:close/>
              </a:path>
              <a:path fill="darken" w="32397" h="21600">
                <a:moveTo>
                  <a:pt x="32397" y="0"/>
                </a:moveTo>
                <a:lnTo>
                  <a:pt x="32397" y="21600"/>
                </a:lnTo>
                <a:lnTo>
                  <a:pt x="30997" y="20200"/>
                </a:lnTo>
                <a:lnTo>
                  <a:pt x="30997" y="1400"/>
                </a:lnTo>
                <a:close/>
              </a:path>
              <a:path fill="darkenLess" w="32397" h="21600">
                <a:moveTo>
                  <a:pt x="32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7" y="20200"/>
                </a:lnTo>
                <a:close/>
              </a:path>
              <a:path fill="lighten" w="32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7" h="21600">
                <a:moveTo>
                  <a:pt x="16199" y="3837"/>
                </a:moveTo>
                <a:lnTo>
                  <a:pt x="18775" y="6448"/>
                </a:lnTo>
                <a:lnTo>
                  <a:pt x="18775" y="4707"/>
                </a:lnTo>
                <a:lnTo>
                  <a:pt x="20550" y="4707"/>
                </a:lnTo>
                <a:lnTo>
                  <a:pt x="20550" y="8224"/>
                </a:lnTo>
                <a:lnTo>
                  <a:pt x="23162" y="10800"/>
                </a:lnTo>
                <a:lnTo>
                  <a:pt x="21508" y="10800"/>
                </a:lnTo>
                <a:lnTo>
                  <a:pt x="21508" y="17989"/>
                </a:lnTo>
                <a:lnTo>
                  <a:pt x="10889" y="17989"/>
                </a:lnTo>
                <a:lnTo>
                  <a:pt x="10889" y="10800"/>
                </a:lnTo>
                <a:lnTo>
                  <a:pt x="9236" y="10800"/>
                </a:lnTo>
                <a:close/>
              </a:path>
              <a:path fill="darkenLess" w="32397" h="21600">
                <a:moveTo>
                  <a:pt x="18775" y="6448"/>
                </a:moveTo>
                <a:lnTo>
                  <a:pt x="18775" y="4707"/>
                </a:lnTo>
                <a:lnTo>
                  <a:pt x="20550" y="4707"/>
                </a:lnTo>
                <a:lnTo>
                  <a:pt x="20550" y="8224"/>
                </a:lnTo>
                <a:close/>
              </a:path>
              <a:path fill="darkenLess" w="32397" h="21600">
                <a:moveTo>
                  <a:pt x="15276" y="14299"/>
                </a:moveTo>
                <a:lnTo>
                  <a:pt x="17121" y="14299"/>
                </a:lnTo>
                <a:lnTo>
                  <a:pt x="17121" y="17989"/>
                </a:lnTo>
                <a:lnTo>
                  <a:pt x="21508" y="17989"/>
                </a:lnTo>
                <a:lnTo>
                  <a:pt x="21508" y="10800"/>
                </a:lnTo>
                <a:lnTo>
                  <a:pt x="10889" y="10800"/>
                </a:lnTo>
                <a:lnTo>
                  <a:pt x="10889" y="17989"/>
                </a:lnTo>
                <a:lnTo>
                  <a:pt x="15276" y="17989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Rectangles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286000" y="1609560"/>
            <a:ext cx="4692600" cy="9813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96" name="Text Box 5"/>
          <p:cNvSpPr/>
          <p:nvPr/>
        </p:nvSpPr>
        <p:spPr>
          <a:xfrm>
            <a:off x="533520" y="3200400"/>
            <a:ext cx="8305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Rectangles have opposite sides that are equal, so side A=C and B=D.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ach one of the angles of a rectangle is 90 degrees.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angle sum of a rectangle is 360 degrees.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371600" y="16002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676520" y="1905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7162920" y="1905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1148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41148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AutoShape 13">
            <a:hlinkClick r:id="rId2" action="ppaction://hlinksldjump"/>
          </p:cNvPr>
          <p:cNvSpPr/>
          <p:nvPr/>
        </p:nvSpPr>
        <p:spPr>
          <a:xfrm>
            <a:off x="7620120" y="5334120"/>
            <a:ext cx="1295280" cy="129528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Polygons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rcRect l="0" t="-814" r="5233" b="0"/>
          <a:stretch/>
        </p:blipFill>
        <p:spPr>
          <a:xfrm>
            <a:off x="1066680" y="2286000"/>
            <a:ext cx="272268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685800" y="11430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Every Day Shapes: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447920" y="55627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Octagon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rcRect l="19563" t="11469" r="20635" b="8305"/>
          <a:stretch/>
        </p:blipFill>
        <p:spPr>
          <a:xfrm>
            <a:off x="5214960" y="2209680"/>
            <a:ext cx="2066760" cy="2895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5181480" y="55468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entagon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AutoShape 10">
            <a:hlinkClick r:id="" action="ppaction://hlinkshowjump?jump=nextslide"/>
          </p:cNvPr>
          <p:cNvSpPr/>
          <p:nvPr/>
        </p:nvSpPr>
        <p:spPr>
          <a:xfrm>
            <a:off x="7772400" y="571500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19604" y="10800"/>
                </a:lnTo>
                <a:lnTo>
                  <a:pt x="5591" y="17806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Polygons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11430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olygons are named according to the number of sides that they have.  For example: Pentagon, pent=5 sid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rcRect l="19563" t="11469" r="20635" b="8305"/>
          <a:stretch/>
        </p:blipFill>
        <p:spPr>
          <a:xfrm>
            <a:off x="2819520" y="2666880"/>
            <a:ext cx="2066760" cy="28958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2514600" y="3657600"/>
            <a:ext cx="0" cy="175248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2514240" y="2438280"/>
            <a:ext cx="1219320" cy="91440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5257800" y="3809880"/>
            <a:ext cx="0" cy="175284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H="1">
            <a:off x="2895120" y="5638680"/>
            <a:ext cx="2057400" cy="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4114800" y="2438280"/>
            <a:ext cx="1066680" cy="106704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 flipH="1">
            <a:off x="3581280" y="586728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 flipH="1">
            <a:off x="5562000" y="42670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 flipH="1">
            <a:off x="5028480" y="24382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 flipH="1">
            <a:off x="1675800" y="40384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 flipH="1">
            <a:off x="2208960" y="23623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6934320" y="5257800"/>
            <a:ext cx="1828800" cy="1295280"/>
          </a:xfrm>
          <a:custGeom>
            <a:avLst/>
            <a:gdLst>
              <a:gd name="textAreaLeft" fmla="*/ 83880 w 1828800"/>
              <a:gd name="textAreaRight" fmla="*/ 1744920 w 18288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0494" h="21600">
                <a:moveTo>
                  <a:pt x="0" y="0"/>
                </a:moveTo>
                <a:lnTo>
                  <a:pt x="30494" y="0"/>
                </a:lnTo>
                <a:lnTo>
                  <a:pt x="30494" y="21600"/>
                </a:lnTo>
                <a:lnTo>
                  <a:pt x="0" y="21600"/>
                </a:lnTo>
                <a:close/>
              </a:path>
              <a:path fill="lightenLess" w="30494" h="21600">
                <a:moveTo>
                  <a:pt x="0" y="0"/>
                </a:moveTo>
                <a:lnTo>
                  <a:pt x="30494" y="0"/>
                </a:lnTo>
                <a:lnTo>
                  <a:pt x="29094" y="1400"/>
                </a:lnTo>
                <a:lnTo>
                  <a:pt x="1400" y="1400"/>
                </a:lnTo>
                <a:close/>
              </a:path>
              <a:path fill="darken" w="30494" h="21600">
                <a:moveTo>
                  <a:pt x="30494" y="0"/>
                </a:moveTo>
                <a:lnTo>
                  <a:pt x="30494" y="21600"/>
                </a:lnTo>
                <a:lnTo>
                  <a:pt x="29094" y="20200"/>
                </a:lnTo>
                <a:lnTo>
                  <a:pt x="29094" y="1400"/>
                </a:lnTo>
                <a:close/>
              </a:path>
              <a:path fill="darkenLess" w="30494" h="21600">
                <a:moveTo>
                  <a:pt x="30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4" y="20200"/>
                </a:lnTo>
                <a:close/>
              </a:path>
              <a:path fill="lighten" w="30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94" h="21600">
                <a:moveTo>
                  <a:pt x="15247" y="3837"/>
                </a:moveTo>
                <a:lnTo>
                  <a:pt x="17824" y="6448"/>
                </a:lnTo>
                <a:lnTo>
                  <a:pt x="17824" y="4707"/>
                </a:lnTo>
                <a:lnTo>
                  <a:pt x="19599" y="4707"/>
                </a:lnTo>
                <a:lnTo>
                  <a:pt x="19599" y="8224"/>
                </a:lnTo>
                <a:lnTo>
                  <a:pt x="22210" y="10800"/>
                </a:lnTo>
                <a:lnTo>
                  <a:pt x="20556" y="10800"/>
                </a:lnTo>
                <a:lnTo>
                  <a:pt x="20556" y="17989"/>
                </a:lnTo>
                <a:lnTo>
                  <a:pt x="9938" y="17989"/>
                </a:lnTo>
                <a:lnTo>
                  <a:pt x="9938" y="10800"/>
                </a:lnTo>
                <a:lnTo>
                  <a:pt x="8284" y="10800"/>
                </a:lnTo>
                <a:close/>
              </a:path>
              <a:path fill="darkenLess" w="30494" h="21600">
                <a:moveTo>
                  <a:pt x="17824" y="6448"/>
                </a:moveTo>
                <a:lnTo>
                  <a:pt x="17824" y="4707"/>
                </a:lnTo>
                <a:lnTo>
                  <a:pt x="19599" y="4707"/>
                </a:lnTo>
                <a:lnTo>
                  <a:pt x="19599" y="8224"/>
                </a:lnTo>
                <a:close/>
              </a:path>
              <a:path fill="darkenLess" w="30494" h="21600">
                <a:moveTo>
                  <a:pt x="14325" y="14299"/>
                </a:moveTo>
                <a:lnTo>
                  <a:pt x="16170" y="14299"/>
                </a:lnTo>
                <a:lnTo>
                  <a:pt x="16170" y="17989"/>
                </a:lnTo>
                <a:lnTo>
                  <a:pt x="20556" y="17989"/>
                </a:lnTo>
                <a:lnTo>
                  <a:pt x="20556" y="10800"/>
                </a:lnTo>
                <a:lnTo>
                  <a:pt x="9938" y="10800"/>
                </a:lnTo>
                <a:lnTo>
                  <a:pt x="9938" y="17989"/>
                </a:lnTo>
                <a:lnTo>
                  <a:pt x="14325" y="17989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Verdana"/>
              </a:rPr>
              <a:t>Acute Angle</a:t>
            </a:r>
            <a:endParaRPr b="1" lang="en-US" sz="5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3520" y="17524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n angle that is smaller than 90 degrees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133" name="Line 7"/>
          <p:cNvSpPr/>
          <p:nvPr/>
        </p:nvSpPr>
        <p:spPr>
          <a:xfrm>
            <a:off x="609480" y="4648320"/>
            <a:ext cx="2743200" cy="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AutoShape 8">
            <a:hlinkClick r:id="" action="ppaction://hlinkshowjump?jump=nextslide"/>
          </p:cNvPr>
          <p:cNvSpPr/>
          <p:nvPr/>
        </p:nvSpPr>
        <p:spPr>
          <a:xfrm>
            <a:off x="7772400" y="556272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What types of shapes have acute angles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209680" y="23302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Most common: Triangl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4648320" y="3505320"/>
            <a:ext cx="1904760" cy="243828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819520" y="4572000"/>
            <a:ext cx="1904760" cy="1219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33520" y="32767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 this triangle, all three angles are less than 90 degre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V="1">
            <a:off x="2743200" y="3657600"/>
            <a:ext cx="2819520" cy="9144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819520" y="4572000"/>
            <a:ext cx="3581280" cy="1219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33520" y="548640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837"/>
                </a:moveTo>
                <a:lnTo>
                  <a:pt x="18776" y="6448"/>
                </a:ln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lnTo>
                  <a:pt x="23163" y="10800"/>
                </a:lnTo>
                <a:lnTo>
                  <a:pt x="21509" y="10800"/>
                </a:lnTo>
                <a:lnTo>
                  <a:pt x="21509" y="17989"/>
                </a:lnTo>
                <a:lnTo>
                  <a:pt x="10891" y="17989"/>
                </a:lnTo>
                <a:lnTo>
                  <a:pt x="10891" y="10800"/>
                </a:lnTo>
                <a:lnTo>
                  <a:pt x="9237" y="10800"/>
                </a:lnTo>
                <a:close/>
              </a:path>
              <a:path fill="darkenLess" w="32400" h="21600">
                <a:moveTo>
                  <a:pt x="18776" y="6448"/>
                </a:move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close/>
              </a:path>
              <a:path fill="darkenLess" w="32400" h="21600">
                <a:moveTo>
                  <a:pt x="15277" y="14299"/>
                </a:moveTo>
                <a:lnTo>
                  <a:pt x="17123" y="14299"/>
                </a:lnTo>
                <a:lnTo>
                  <a:pt x="17123" y="17989"/>
                </a:lnTo>
                <a:lnTo>
                  <a:pt x="21509" y="17989"/>
                </a:lnTo>
                <a:lnTo>
                  <a:pt x="21509" y="10800"/>
                </a:lnTo>
                <a:lnTo>
                  <a:pt x="10891" y="10800"/>
                </a:lnTo>
                <a:lnTo>
                  <a:pt x="10891" y="17989"/>
                </a:lnTo>
                <a:lnTo>
                  <a:pt x="15277" y="17989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6:57:24Z</dcterms:created>
  <dc:creator>Meghan Kaifes</dc:creator>
  <dc:description/>
  <dc:language>en-US</dc:language>
  <cp:lastModifiedBy>Oklahoma State University</cp:lastModifiedBy>
  <dcterms:modified xsi:type="dcterms:W3CDTF">2009-03-02T23:08:27Z</dcterms:modified>
  <cp:revision>11</cp:revision>
  <dc:subject/>
  <dc:title>PowerPoint Presentation</dc:title>
</cp:coreProperties>
</file>